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1.png" ContentType="image/png"/>
  <Override PartName="/ppt/media/image24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2.jpeg" ContentType="image/jpeg"/>
  <Override PartName="/ppt/media/image8.png" ContentType="image/png"/>
  <Override PartName="/ppt/media/image16.wmf" ContentType="image/x-wmf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4339-AF0C-48CA-BBD2-957ED8C07B5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A42F-EC62-40EF-AD90-B63768F5E29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3238-4E9F-4BF4-8DE6-04E70D1D543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B8DE-99FC-4FBC-87A3-1E254831B43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A6C-2207-42B0-BD56-83BF354F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467-6705-42DF-BEA2-D3248576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79B-A376-4212-88EE-0F3517ED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44D-3D38-4DE0-81C7-B8405E91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3697-C487-41EC-AD15-25E1AC4E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8DC0-E468-4151-AFFC-F8F4743B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F40C-AFAD-49C6-ABDF-BF373E2C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A3DD-2D4C-4C79-92C1-C6A412E7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9118-E362-4595-86F6-3366468A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672C-BD2D-40F3-B745-B1FA2FB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DE1C-013A-4014-AB4B-81397A6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572-8ED7-4571-A9F3-7F1F6755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35CC-20F3-43AF-A0F3-042D9D9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F536-6C79-435B-BCB4-0306AF0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5F47-87EB-4154-97FE-ED36925B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86D1-237C-45B2-BDC0-664AA1E4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5044-0E32-4B1C-B223-54118D02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61DD-A453-4EAE-BA60-D88CB4C0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417C-A51F-47FA-B53A-E99641A6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E5B8-1AB6-42E5-BBFA-D87C46F6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6207-C3F9-4DF0-BC5A-123F3E85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22F00-3510-4C9A-AEC4-7833F034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7B2-C572-4092-AFAA-A5D8FD5A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C457-B9E7-4334-8370-36A14615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2C15-3C7E-49EF-9371-97039EBD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CD5D-5BC9-4CF7-AA05-CAB1341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3DFA-EE68-4774-B2F7-48784A00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0BED-D870-4FC4-919A-CFBB8491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70B1-B467-4F4B-8B7D-5E8C4CF9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F04C-6036-4856-B0F8-92FCECE8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D0F-FC0C-43BA-B835-15A84822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F8F-7084-4054-8CC6-9C7D1008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7A3-7936-4FA5-B5AB-A5A62B97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0FC-7B93-4556-9D3C-C5201EF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CF4-902A-4B56-8EE2-C2F50B82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375-BF08-4565-9202-343BAEA8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52C7-750B-4133-B564-340C70FF1C8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3714-2CB3-4FCC-8B7B-E700E732C68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8ECE-EF70-4496-A288-40653A19579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18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diabetesbienestarysalud.com/wp-content/uploads/2011/03/alimentos-proteinas-diabetes-585x300.jpg"/>
          <p:cNvPicPr/>
          <p:nvPr/>
        </p:nvPicPr>
        <p:blipFill>
          <a:blip r:embed="rId1"/>
          <a:stretch/>
        </p:blipFill>
        <p:spPr>
          <a:xfrm>
            <a:off x="0" y="357120"/>
            <a:ext cx="9036000" cy="535788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2920" y="506520"/>
            <a:ext cx="8820000" cy="66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8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PROTEÍNAS Y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Digestión de proteínas y Absorción de aminoác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Metabolismo de aminoácidos- Degradación y eliminación de Nitrógeno: Reacciones de  Transaminación, Desaminación oxidativa del Glutamat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saminación No oxid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Ciclo de la U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Catabolismo del esqueleto carbonado: Aminoácidos      Glucogénicos y Cetogé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Funciones precursoras de los Aminoácido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73160" y="409680"/>
            <a:ext cx="689904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260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5643720" y="3357720"/>
            <a:ext cx="100008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3 Rectángulo"/>
          <p:cNvSpPr/>
          <p:nvPr/>
        </p:nvSpPr>
        <p:spPr>
          <a:xfrm>
            <a:off x="300024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5 Rectángulo"/>
          <p:cNvSpPr/>
          <p:nvPr/>
        </p:nvSpPr>
        <p:spPr>
          <a:xfrm>
            <a:off x="550080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6 Rectángulo"/>
          <p:cNvSpPr/>
          <p:nvPr/>
        </p:nvSpPr>
        <p:spPr>
          <a:xfrm>
            <a:off x="557208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8 CuadroTexto"/>
          <p:cNvSpPr/>
          <p:nvPr/>
        </p:nvSpPr>
        <p:spPr>
          <a:xfrm>
            <a:off x="2428920" y="3429000"/>
            <a:ext cx="164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24 CuadroTexto"/>
          <p:cNvGrpSpPr/>
          <p:nvPr/>
        </p:nvGrpSpPr>
        <p:grpSpPr>
          <a:xfrm>
            <a:off x="2840040" y="5456160"/>
            <a:ext cx="1317600" cy="1103400"/>
            <a:chOff x="2840040" y="5456160"/>
            <a:chExt cx="1317600" cy="1103400"/>
          </a:xfrm>
        </p:grpSpPr>
        <p:pic>
          <p:nvPicPr>
            <p:cNvPr id="273" name="24 CuadroTexto" descr=""/>
            <p:cNvPicPr/>
            <p:nvPr/>
          </p:nvPicPr>
          <p:blipFill>
            <a:blip r:embed="rId2"/>
            <a:stretch/>
          </p:blipFill>
          <p:spPr>
            <a:xfrm>
              <a:off x="2840040" y="545616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022920" y="5500800"/>
              <a:ext cx="9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25 CuadroTexto"/>
          <p:cNvSpPr/>
          <p:nvPr/>
        </p:nvSpPr>
        <p:spPr>
          <a:xfrm>
            <a:off x="2428920" y="3416400"/>
            <a:ext cx="1285920" cy="36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8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0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000" y="333000"/>
            <a:ext cx="882036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AMINOACIDOS QUE RINDEN OXALACET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922320" y="4149720"/>
            <a:ext cx="2282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PAR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84360" y="2205000"/>
            <a:ext cx="2808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PARR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508720" y="4221000"/>
            <a:ext cx="2631960" cy="459720"/>
          </a:xfrm>
          <a:prstGeom prst="rect">
            <a:avLst/>
          </a:prstGeom>
          <a:solidFill>
            <a:srgbClr val="ef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2050920" y="2852640"/>
            <a:ext cx="217440" cy="1224000"/>
          </a:xfrm>
          <a:prstGeom prst="downArrow">
            <a:avLst>
              <a:gd name="adj1" fmla="val 50000"/>
              <a:gd name="adj2" fmla="val 14072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 rot="16200000">
            <a:off x="4356000" y="3573000"/>
            <a:ext cx="215640" cy="1800000"/>
          </a:xfrm>
          <a:prstGeom prst="downArrow">
            <a:avLst>
              <a:gd name="adj1" fmla="val 50000"/>
              <a:gd name="adj2" fmla="val 20868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411280" y="3068640"/>
            <a:ext cx="23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Asparrag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3708360" y="4005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1116000" y="3500280"/>
            <a:ext cx="792000" cy="40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1187280" y="2781360"/>
            <a:ext cx="648000" cy="40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3"/>
          <p:cNvSpPr/>
          <p:nvPr/>
        </p:nvSpPr>
        <p:spPr>
          <a:xfrm>
            <a:off x="1835280" y="306864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457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1835280" y="4869000"/>
            <a:ext cx="24476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4449600" y="4906800"/>
            <a:ext cx="17780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7"/>
          <p:cNvSpPr/>
          <p:nvPr/>
        </p:nvSpPr>
        <p:spPr>
          <a:xfrm>
            <a:off x="3924360" y="4653000"/>
            <a:ext cx="647640" cy="216000"/>
          </a:xfrm>
          <a:custGeom>
            <a:avLst/>
            <a:gdLst>
              <a:gd name="textAreaLeft" fmla="*/ 113400 w 647640"/>
              <a:gd name="textAreaRight" fmla="*/ 469800 w 647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293" name="Picture 2" descr=""/>
            <p:cNvPicPr/>
            <p:nvPr/>
          </p:nvPicPr>
          <p:blipFill>
            <a:blip r:embed="rId1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Calibri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Calibri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Calibri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5 CuadroTexto"/>
          <p:cNvSpPr/>
          <p:nvPr/>
        </p:nvSpPr>
        <p:spPr>
          <a:xfrm>
            <a:off x="3796560" y="5715000"/>
            <a:ext cx="13284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5075280" y="1500120"/>
            <a:ext cx="100980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spar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7 CuadroTexto"/>
          <p:cNvSpPr/>
          <p:nvPr/>
        </p:nvSpPr>
        <p:spPr>
          <a:xfrm>
            <a:off x="5103360" y="3478320"/>
            <a:ext cx="91836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spar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8 CuadroTexto"/>
          <p:cNvSpPr/>
          <p:nvPr/>
        </p:nvSpPr>
        <p:spPr>
          <a:xfrm>
            <a:off x="4837680" y="3857760"/>
            <a:ext cx="150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lfa-Cetogluta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9 CuadroTexto"/>
          <p:cNvSpPr/>
          <p:nvPr/>
        </p:nvSpPr>
        <p:spPr>
          <a:xfrm>
            <a:off x="4814280" y="4429080"/>
            <a:ext cx="95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214200" y="409680"/>
            <a:ext cx="689940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303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2 Rectángulo"/>
          <p:cNvSpPr/>
          <p:nvPr/>
        </p:nvSpPr>
        <p:spPr>
          <a:xfrm>
            <a:off x="5786280" y="3357720"/>
            <a:ext cx="100044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3 Rectángulo"/>
          <p:cNvSpPr/>
          <p:nvPr/>
        </p:nvSpPr>
        <p:spPr>
          <a:xfrm>
            <a:off x="307188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5 Rectángulo"/>
          <p:cNvSpPr/>
          <p:nvPr/>
        </p:nvSpPr>
        <p:spPr>
          <a:xfrm>
            <a:off x="557208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6 Rectángulo"/>
          <p:cNvSpPr/>
          <p:nvPr/>
        </p:nvSpPr>
        <p:spPr>
          <a:xfrm>
            <a:off x="557208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 flipV="1">
            <a:off x="214200" y="1454040"/>
            <a:ext cx="428760" cy="46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8"/>
          <p:cNvSpPr/>
          <p:nvPr/>
        </p:nvSpPr>
        <p:spPr>
          <a:xfrm flipV="1">
            <a:off x="214200" y="1071360"/>
            <a:ext cx="428760" cy="96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6500880" y="3786120"/>
            <a:ext cx="785880" cy="71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0"/>
          <p:cNvSpPr/>
          <p:nvPr/>
        </p:nvSpPr>
        <p:spPr>
          <a:xfrm>
            <a:off x="6686640" y="3571920"/>
            <a:ext cx="600120" cy="76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26 Rectángulo"/>
          <p:cNvSpPr/>
          <p:nvPr/>
        </p:nvSpPr>
        <p:spPr>
          <a:xfrm>
            <a:off x="500040" y="2928960"/>
            <a:ext cx="1214640" cy="4287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27 Rectángulo"/>
          <p:cNvSpPr/>
          <p:nvPr/>
        </p:nvSpPr>
        <p:spPr>
          <a:xfrm>
            <a:off x="3929040" y="3429000"/>
            <a:ext cx="107172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21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a Fenilalanina y 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os dos aminoácidos se degradan por la misma vía y dan lugar a fumarato y acetoacet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 partir de Fenilalanina se forma tirosina por ello se la considera aminoácido ese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Fenilalanina también puede transaminar para dar los cetoácidos fenilpirúvico y fenilláctico (vía poco ac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30"/>
          <p:cNvGrpSpPr/>
          <p:nvPr/>
        </p:nvGrpSpPr>
        <p:grpSpPr>
          <a:xfrm>
            <a:off x="1214280" y="714240"/>
            <a:ext cx="6552720" cy="5760720"/>
            <a:chOff x="1214280" y="714240"/>
            <a:chExt cx="6552720" cy="5760720"/>
          </a:xfrm>
        </p:grpSpPr>
        <p:grpSp>
          <p:nvGrpSpPr>
            <p:cNvPr id="324" name="Group 22"/>
            <p:cNvGrpSpPr/>
            <p:nvPr/>
          </p:nvGrpSpPr>
          <p:grpSpPr>
            <a:xfrm>
              <a:off x="1214280" y="714240"/>
              <a:ext cx="6552720" cy="5760720"/>
              <a:chOff x="1214280" y="714240"/>
              <a:chExt cx="6552720" cy="5760720"/>
            </a:xfrm>
          </p:grpSpPr>
          <p:grpSp>
            <p:nvGrpSpPr>
              <p:cNvPr id="325" name="Group 20"/>
              <p:cNvGrpSpPr/>
              <p:nvPr/>
            </p:nvGrpSpPr>
            <p:grpSpPr>
              <a:xfrm>
                <a:off x="1214280" y="714240"/>
                <a:ext cx="6552720" cy="5760360"/>
                <a:chOff x="1214280" y="714240"/>
                <a:chExt cx="6552720" cy="5760360"/>
              </a:xfrm>
            </p:grpSpPr>
            <p:pic>
              <p:nvPicPr>
                <p:cNvPr id="326" name="Picture 2" descr=""/>
                <p:cNvPicPr/>
                <p:nvPr/>
              </p:nvPicPr>
              <p:blipFill>
                <a:blip r:embed="rId1"/>
                <a:srcRect l="35746" t="4789" r="0" b="12549"/>
                <a:stretch/>
              </p:blipFill>
              <p:spPr>
                <a:xfrm>
                  <a:off x="1297080" y="7948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Rectangle 11"/>
                <p:cNvSpPr/>
                <p:nvPr/>
              </p:nvSpPr>
              <p:spPr>
                <a:xfrm>
                  <a:off x="1214280" y="7142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Rectangle 13"/>
              <p:cNvSpPr/>
              <p:nvPr/>
            </p:nvSpPr>
            <p:spPr>
              <a:xfrm>
                <a:off x="1297440" y="59882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14"/>
              <p:cNvSpPr/>
              <p:nvPr/>
            </p:nvSpPr>
            <p:spPr>
              <a:xfrm>
                <a:off x="4824720" y="29538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16"/>
              <p:cNvSpPr/>
              <p:nvPr/>
            </p:nvSpPr>
            <p:spPr>
              <a:xfrm>
                <a:off x="4896720" y="26607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8"/>
              <p:cNvSpPr/>
              <p:nvPr/>
            </p:nvSpPr>
            <p:spPr>
              <a:xfrm>
                <a:off x="4640040" y="54676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2"/>
              <p:cNvSpPr/>
              <p:nvPr/>
            </p:nvSpPr>
            <p:spPr>
              <a:xfrm>
                <a:off x="1297440" y="29041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1"/>
              <p:cNvSpPr/>
              <p:nvPr/>
            </p:nvSpPr>
            <p:spPr>
              <a:xfrm>
                <a:off x="1297440" y="40399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28"/>
            <p:cNvSpPr/>
            <p:nvPr/>
          </p:nvSpPr>
          <p:spPr>
            <a:xfrm>
              <a:off x="6079320" y="3238560"/>
              <a:ext cx="627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24"/>
          <p:cNvSpPr/>
          <p:nvPr/>
        </p:nvSpPr>
        <p:spPr>
          <a:xfrm>
            <a:off x="5453640" y="1720800"/>
            <a:ext cx="7704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Calibri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Calibri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6504840" y="1795320"/>
            <a:ext cx="22644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4248360" y="2779560"/>
            <a:ext cx="1444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Transaminaci</a:t>
            </a: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Descarboxilaci</a:t>
            </a: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Oxidaci</a:t>
            </a: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Hidr</a:t>
            </a: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9"/>
          <p:cNvSpPr/>
          <p:nvPr/>
        </p:nvSpPr>
        <p:spPr>
          <a:xfrm>
            <a:off x="3089160" y="4398840"/>
            <a:ext cx="6926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Calibri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7 CuadroTexto"/>
          <p:cNvSpPr/>
          <p:nvPr/>
        </p:nvSpPr>
        <p:spPr>
          <a:xfrm>
            <a:off x="6568200" y="1500120"/>
            <a:ext cx="10828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Fenilalan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18 CuadroTexto"/>
          <p:cNvSpPr/>
          <p:nvPr/>
        </p:nvSpPr>
        <p:spPr>
          <a:xfrm>
            <a:off x="6838560" y="2714760"/>
            <a:ext cx="77364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19 CuadroTexto"/>
          <p:cNvSpPr/>
          <p:nvPr/>
        </p:nvSpPr>
        <p:spPr>
          <a:xfrm>
            <a:off x="6477840" y="4000680"/>
            <a:ext cx="90324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0 CuadroTexto"/>
          <p:cNvSpPr/>
          <p:nvPr/>
        </p:nvSpPr>
        <p:spPr>
          <a:xfrm>
            <a:off x="2600280" y="5264280"/>
            <a:ext cx="136656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ceto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21 CuadroTexto"/>
          <p:cNvSpPr/>
          <p:nvPr/>
        </p:nvSpPr>
        <p:spPr>
          <a:xfrm>
            <a:off x="2577600" y="6215040"/>
            <a:ext cx="95508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23 CuadroTexto"/>
          <p:cNvSpPr/>
          <p:nvPr/>
        </p:nvSpPr>
        <p:spPr>
          <a:xfrm>
            <a:off x="4929120" y="4429080"/>
            <a:ext cx="135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5 Multiplicar"/>
          <p:cNvSpPr/>
          <p:nvPr/>
        </p:nvSpPr>
        <p:spPr>
          <a:xfrm>
            <a:off x="5143680" y="1714680"/>
            <a:ext cx="214200" cy="285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26 CuadroTexto"/>
          <p:cNvSpPr/>
          <p:nvPr/>
        </p:nvSpPr>
        <p:spPr>
          <a:xfrm>
            <a:off x="8157960" y="1857240"/>
            <a:ext cx="28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45 CuadroTexto"/>
          <p:cNvSpPr/>
          <p:nvPr/>
        </p:nvSpPr>
        <p:spPr>
          <a:xfrm>
            <a:off x="3462840" y="169236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Fenilcetonu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47 Conector recto de flecha"/>
          <p:cNvCxnSpPr/>
          <p:nvPr/>
        </p:nvCxnSpPr>
        <p:spPr>
          <a:xfrm flipH="1" flipV="1">
            <a:off x="4714560" y="1855440"/>
            <a:ext cx="3578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9" name="51 CuadroTexto"/>
          <p:cNvSpPr/>
          <p:nvPr/>
        </p:nvSpPr>
        <p:spPr>
          <a:xfrm>
            <a:off x="3286080" y="1630440"/>
            <a:ext cx="2143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52 CuadroTexto"/>
          <p:cNvSpPr/>
          <p:nvPr/>
        </p:nvSpPr>
        <p:spPr>
          <a:xfrm flipH="1">
            <a:off x="3857040" y="1143000"/>
            <a:ext cx="185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0000"/>
                </a:solidFill>
                <a:latin typeface="Calibri"/>
              </a:rPr>
              <a:t>Aminotransfer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0000"/>
                </a:solidFill>
                <a:latin typeface="Calibri"/>
              </a:rPr>
              <a:t>PL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54 Conector recto de flecha"/>
          <p:cNvCxnSpPr/>
          <p:nvPr/>
        </p:nvCxnSpPr>
        <p:spPr>
          <a:xfrm flipH="1" flipV="1">
            <a:off x="4214160" y="1142640"/>
            <a:ext cx="1251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2" name="56 CuadroTexto"/>
          <p:cNvSpPr/>
          <p:nvPr/>
        </p:nvSpPr>
        <p:spPr>
          <a:xfrm>
            <a:off x="2969640" y="1000080"/>
            <a:ext cx="1107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enilpirúv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59 Flecha circular"/>
          <p:cNvSpPr/>
          <p:nvPr/>
        </p:nvSpPr>
        <p:spPr>
          <a:xfrm rot="10800000">
            <a:off x="4500360" y="642600"/>
            <a:ext cx="571320" cy="50004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60 CuadroTexto"/>
          <p:cNvSpPr/>
          <p:nvPr/>
        </p:nvSpPr>
        <p:spPr>
          <a:xfrm>
            <a:off x="3936600" y="357120"/>
            <a:ext cx="15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lanina     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61 CuadroTexto"/>
          <p:cNvSpPr/>
          <p:nvPr/>
        </p:nvSpPr>
        <p:spPr>
          <a:xfrm>
            <a:off x="2857680" y="571680"/>
            <a:ext cx="2643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Fenilalanina Hidroxil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5" descr="fi21p18"/>
          <p:cNvPicPr/>
          <p:nvPr/>
        </p:nvPicPr>
        <p:blipFill>
          <a:blip r:embed="rId1"/>
          <a:srcRect l="9045" t="0" r="14583" b="36784"/>
          <a:stretch/>
        </p:blipFill>
        <p:spPr>
          <a:xfrm>
            <a:off x="289080" y="1547640"/>
            <a:ext cx="8604000" cy="42577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3635280" y="2565360"/>
            <a:ext cx="180036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Calibri"/>
              </a:rPr>
              <a:t>Fenilalanina hidr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3635280" y="5229360"/>
            <a:ext cx="19447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Calibri"/>
              </a:rPr>
              <a:t>Dihidropterina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971640" y="6308640"/>
            <a:ext cx="640872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xigenasa de función mixta: -OH y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3"/>
          <p:cNvSpPr/>
          <p:nvPr/>
        </p:nvSpPr>
        <p:spPr>
          <a:xfrm>
            <a:off x="5508720" y="5373720"/>
            <a:ext cx="1800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PH + 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826920" y="3141720"/>
            <a:ext cx="208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6659640" y="3141720"/>
            <a:ext cx="1439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692360" y="4941720"/>
            <a:ext cx="190800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2"/>
          <p:cNvSpPr/>
          <p:nvPr/>
        </p:nvSpPr>
        <p:spPr>
          <a:xfrm>
            <a:off x="2700360" y="5373720"/>
            <a:ext cx="93492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5867280" y="4941720"/>
            <a:ext cx="190836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transaminación de Fenilala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68680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a ruta del metabolismo de fenilalanina, muy poco utiliz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755640" y="4141800"/>
            <a:ext cx="2808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3490920" y="4284720"/>
            <a:ext cx="100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572000" y="414180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987640" y="5805360"/>
            <a:ext cx="17287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5508720" y="587700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ni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409720" y="4953960"/>
            <a:ext cx="698040" cy="82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3492360" y="4365720"/>
            <a:ext cx="71928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3059280" y="386064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4"/>
          <p:cNvGrpSpPr/>
          <p:nvPr/>
        </p:nvGrpSpPr>
        <p:grpSpPr>
          <a:xfrm>
            <a:off x="3348000" y="4933800"/>
            <a:ext cx="1655640" cy="648000"/>
            <a:chOff x="3348000" y="4933800"/>
            <a:chExt cx="1655640" cy="648000"/>
          </a:xfrm>
        </p:grpSpPr>
        <p:sp>
          <p:nvSpPr>
            <p:cNvPr id="378" name="Line 10"/>
            <p:cNvSpPr/>
            <p:nvPr/>
          </p:nvSpPr>
          <p:spPr>
            <a:xfrm flipH="1">
              <a:off x="4140360" y="4933800"/>
              <a:ext cx="86328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3348000" y="4941720"/>
              <a:ext cx="865080" cy="405720"/>
            </a:xfrm>
            <a:prstGeom prst="rect">
              <a:avLst/>
            </a:prstGeom>
            <a:solidFill>
              <a:srgbClr val="ebf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5"/>
            <p:cNvSpPr/>
            <p:nvPr/>
          </p:nvSpPr>
          <p:spPr>
            <a:xfrm flipH="1" flipV="1">
              <a:off x="4211280" y="5084280"/>
              <a:ext cx="431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19" descr="phe"/>
          <p:cNvPicPr/>
          <p:nvPr/>
        </p:nvPicPr>
        <p:blipFill>
          <a:blip r:embed="rId6"/>
          <a:srcRect l="0" t="0" r="-5192" b="8872"/>
          <a:stretch/>
        </p:blipFill>
        <p:spPr>
          <a:xfrm>
            <a:off x="900000" y="2637000"/>
            <a:ext cx="1095480" cy="13428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23"/>
          <p:cNvGrpSpPr/>
          <p:nvPr/>
        </p:nvGrpSpPr>
        <p:grpSpPr>
          <a:xfrm>
            <a:off x="4932360" y="2637000"/>
            <a:ext cx="1095480" cy="1342800"/>
            <a:chOff x="4932360" y="2637000"/>
            <a:chExt cx="1095480" cy="1342800"/>
          </a:xfrm>
        </p:grpSpPr>
        <p:pic>
          <p:nvPicPr>
            <p:cNvPr id="383" name="Picture 17" descr="phe"/>
            <p:cNvPicPr/>
            <p:nvPr/>
          </p:nvPicPr>
          <p:blipFill>
            <a:blip r:embed="rId7"/>
            <a:srcRect l="0" t="0" r="-5192" b="8872"/>
            <a:stretch/>
          </p:blipFill>
          <p:spPr>
            <a:xfrm>
              <a:off x="4932360" y="2637000"/>
              <a:ext cx="109548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22"/>
            <p:cNvSpPr/>
            <p:nvPr/>
          </p:nvSpPr>
          <p:spPr>
            <a:xfrm>
              <a:off x="4932360" y="3500280"/>
              <a:ext cx="431640" cy="2764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1 Rectángulo"/>
          <p:cNvSpPr/>
          <p:nvPr/>
        </p:nvSpPr>
        <p:spPr>
          <a:xfrm>
            <a:off x="539640" y="620640"/>
            <a:ext cx="8280360" cy="5761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Fenilcetonu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i el trastorno se detecta a tiempo puede evitarse el daño cerebral administrando una dieta con bajo contenido de fenilalanina y abundante contenido en tiros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s común encontrar alimentos que alertan sobre el no consumo para fenilcetonúricos, por ejemplo, los que contienen como edulcorante el ASPARTAMO, un dipéptido de fenilalanina y aspartato que cuando se hidroliza en el tracto digestivo  libera  fenilalan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Group 11" descr=""/>
          <p:cNvPicPr/>
          <p:nvPr/>
        </p:nvPicPr>
        <p:blipFill>
          <a:blip r:embed="rId1"/>
          <a:stretch/>
        </p:blipFill>
        <p:spPr>
          <a:xfrm>
            <a:off x="1895400" y="2341440"/>
            <a:ext cx="37069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2"/>
          <p:cNvGrpSpPr/>
          <p:nvPr/>
        </p:nvGrpSpPr>
        <p:grpSpPr>
          <a:xfrm>
            <a:off x="1533600" y="3578400"/>
            <a:ext cx="4753080" cy="777240"/>
            <a:chOff x="1533600" y="3578400"/>
            <a:chExt cx="4753080" cy="777240"/>
          </a:xfrm>
        </p:grpSpPr>
        <p:sp>
          <p:nvSpPr>
            <p:cNvPr id="135" name="Rectangle 23"/>
            <p:cNvSpPr/>
            <p:nvPr/>
          </p:nvSpPr>
          <p:spPr>
            <a:xfrm>
              <a:off x="1533600" y="3958920"/>
              <a:ext cx="475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α - cetoácidos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	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      amoníaco</a:t>
              </a:r>
              <a:r>
                <a:rPr b="0" lang="es-ES" sz="2000" spc="-1" strike="noStrike">
                  <a:solidFill>
                    <a:srgbClr val="0000cc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4"/>
            <p:cNvSpPr/>
            <p:nvPr/>
          </p:nvSpPr>
          <p:spPr>
            <a:xfrm rot="5400000">
              <a:off x="3918600" y="3588480"/>
              <a:ext cx="739440" cy="718920"/>
            </a:xfrm>
            <a:prstGeom prst="pie">
              <a:avLst/>
            </a:pr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 flipH="1" rot="16200000">
              <a:off x="3237120" y="3587760"/>
              <a:ext cx="739440" cy="720720"/>
            </a:xfrm>
            <a:prstGeom prst="pie">
              <a:avLst/>
            </a:pr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12 CuadroTexto"/>
          <p:cNvSpPr/>
          <p:nvPr/>
        </p:nvSpPr>
        <p:spPr>
          <a:xfrm>
            <a:off x="2428920" y="285840"/>
            <a:ext cx="3000240" cy="8254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GRAD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3 CuadroTexto"/>
          <p:cNvSpPr/>
          <p:nvPr/>
        </p:nvSpPr>
        <p:spPr>
          <a:xfrm>
            <a:off x="2000160" y="13129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¿Mediante 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procesos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4 CuadroTexto"/>
          <p:cNvSpPr/>
          <p:nvPr/>
        </p:nvSpPr>
        <p:spPr>
          <a:xfrm>
            <a:off x="1079640" y="4286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Esqueletos carb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5429160" y="500076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1785960" y="4643280"/>
            <a:ext cx="357120" cy="357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5500800" y="435456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8 CuadroTexto"/>
          <p:cNvSpPr/>
          <p:nvPr/>
        </p:nvSpPr>
        <p:spPr>
          <a:xfrm>
            <a:off x="5172120" y="4643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20 CuadroTexto"/>
          <p:cNvSpPr/>
          <p:nvPr/>
        </p:nvSpPr>
        <p:spPr>
          <a:xfrm>
            <a:off x="5112360" y="53578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786040" y="4643280"/>
            <a:ext cx="357120" cy="357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3 CuadroTexto"/>
          <p:cNvSpPr/>
          <p:nvPr/>
        </p:nvSpPr>
        <p:spPr>
          <a:xfrm>
            <a:off x="866520" y="500076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24 CuadroTexto"/>
          <p:cNvSpPr/>
          <p:nvPr/>
        </p:nvSpPr>
        <p:spPr>
          <a:xfrm>
            <a:off x="2551320" y="500076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1643040" y="5429160"/>
            <a:ext cx="500040" cy="571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 flipH="1">
            <a:off x="2643120" y="5643720"/>
            <a:ext cx="357120" cy="357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7 CuadroTexto"/>
          <p:cNvSpPr/>
          <p:nvPr/>
        </p:nvSpPr>
        <p:spPr>
          <a:xfrm>
            <a:off x="1149120" y="5929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Acetil-CoA, 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857760" y="6168960"/>
            <a:ext cx="428400" cy="40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9 CuadroTexto"/>
          <p:cNvSpPr/>
          <p:nvPr/>
        </p:nvSpPr>
        <p:spPr>
          <a:xfrm>
            <a:off x="4283640" y="6429240"/>
            <a:ext cx="2100960" cy="368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2 + H2O +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0 CuadroTexto"/>
          <p:cNvSpPr/>
          <p:nvPr/>
        </p:nvSpPr>
        <p:spPr>
          <a:xfrm>
            <a:off x="5798520" y="500040"/>
            <a:ext cx="305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¿Qué propor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la necesidad energ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u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10% del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(90% re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lo prov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Hidratos de C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Lípido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5429160" y="500040"/>
            <a:ext cx="428760" cy="40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32 CuadroTexto"/>
          <p:cNvSpPr/>
          <p:nvPr/>
        </p:nvSpPr>
        <p:spPr>
          <a:xfrm>
            <a:off x="-2160" y="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Repasemo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GRADACION DE 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17" descr="tyr"/>
          <p:cNvPicPr/>
          <p:nvPr/>
        </p:nvPicPr>
        <p:blipFill>
          <a:blip r:embed="rId1"/>
          <a:stretch/>
        </p:blipFill>
        <p:spPr>
          <a:xfrm>
            <a:off x="755640" y="1630440"/>
            <a:ext cx="1293840" cy="17542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1"/>
          <p:cNvSpPr/>
          <p:nvPr/>
        </p:nvSpPr>
        <p:spPr>
          <a:xfrm>
            <a:off x="539640" y="3213000"/>
            <a:ext cx="179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3851280" y="1700280"/>
            <a:ext cx="24480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ido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932360" y="2925720"/>
            <a:ext cx="208908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1,2-dioxi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9"/>
          <p:cNvSpPr/>
          <p:nvPr/>
        </p:nvSpPr>
        <p:spPr>
          <a:xfrm>
            <a:off x="4429080" y="2709720"/>
            <a:ext cx="432000" cy="503280"/>
          </a:xfrm>
          <a:custGeom>
            <a:avLst/>
            <a:gdLst>
              <a:gd name="textAreaLeft" fmla="*/ 98640 w 432000"/>
              <a:gd name="textAreaRight" fmla="*/ 333360 w 432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1"/>
          <p:cNvSpPr/>
          <p:nvPr/>
        </p:nvSpPr>
        <p:spPr>
          <a:xfrm>
            <a:off x="212400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>
            <a:off x="306072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5"/>
          <p:cNvSpPr/>
          <p:nvPr/>
        </p:nvSpPr>
        <p:spPr>
          <a:xfrm>
            <a:off x="493236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6"/>
          <p:cNvSpPr/>
          <p:nvPr/>
        </p:nvSpPr>
        <p:spPr>
          <a:xfrm>
            <a:off x="4932360" y="3933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493236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6372360" y="1917720"/>
            <a:ext cx="576000" cy="287280"/>
          </a:xfrm>
          <a:custGeom>
            <a:avLst/>
            <a:gdLst>
              <a:gd name="textAreaLeft" fmla="*/ 100800 w 576000"/>
              <a:gd name="textAreaRight" fmla="*/ 417600 w 576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9"/>
          <p:cNvSpPr/>
          <p:nvPr/>
        </p:nvSpPr>
        <p:spPr>
          <a:xfrm>
            <a:off x="7093080" y="1989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LCAPT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0"/>
          <p:cNvSpPr/>
          <p:nvPr/>
        </p:nvSpPr>
        <p:spPr>
          <a:xfrm>
            <a:off x="7308720" y="3716280"/>
            <a:ext cx="1440000" cy="1008720"/>
          </a:xfrm>
          <a:prstGeom prst="rect">
            <a:avLst/>
          </a:prstGeom>
          <a:solidFill>
            <a:srgbClr val="7d6961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RINA MARRON OSC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1"/>
          <p:cNvSpPr/>
          <p:nvPr/>
        </p:nvSpPr>
        <p:spPr>
          <a:xfrm>
            <a:off x="7812000" y="2421000"/>
            <a:ext cx="360360" cy="1079280"/>
          </a:xfrm>
          <a:prstGeom prst="upArrow">
            <a:avLst>
              <a:gd name="adj1" fmla="val 50000"/>
              <a:gd name="adj2" fmla="val 74875"/>
            </a:avLst>
          </a:prstGeom>
          <a:solidFill>
            <a:srgbClr val="7d69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2"/>
          <p:cNvSpPr/>
          <p:nvPr/>
        </p:nvSpPr>
        <p:spPr>
          <a:xfrm>
            <a:off x="468360" y="4724280"/>
            <a:ext cx="2232000" cy="398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3"/>
          <p:cNvSpPr/>
          <p:nvPr/>
        </p:nvSpPr>
        <p:spPr>
          <a:xfrm flipV="1">
            <a:off x="125892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4"/>
          <p:cNvSpPr/>
          <p:nvPr/>
        </p:nvSpPr>
        <p:spPr>
          <a:xfrm>
            <a:off x="2771640" y="6021360"/>
            <a:ext cx="4608720" cy="398880"/>
          </a:xfrm>
          <a:prstGeom prst="rect">
            <a:avLst/>
          </a:prstGeom>
          <a:solidFill>
            <a:srgbClr val="f8a6c9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FUMARATO  +  ACETO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1 CuadroTexto"/>
          <p:cNvSpPr/>
          <p:nvPr/>
        </p:nvSpPr>
        <p:spPr>
          <a:xfrm>
            <a:off x="324000" y="476280"/>
            <a:ext cx="8532720" cy="478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E LLAMA  A LA  SUSTANCIA : ALCAP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FINALMENTE SE IDENTIFICA EL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ENZIMA DEFICIENTE ES : </a:t>
            </a:r>
            <a:r>
              <a:rPr b="1" i="1" lang="es-AR" sz="2400" spc="-1" strike="noStrike">
                <a:solidFill>
                  <a:srgbClr val="000000"/>
                </a:solidFill>
                <a:latin typeface="Calibri"/>
              </a:rPr>
              <a:t>HOMOGENTÍSIC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ff"/>
                </a:solidFill>
                <a:latin typeface="Calibri"/>
              </a:rPr>
              <a:t>AMINOACIDOS COMO PRECURSORES EN LA BIOSINTESIS DE AMINAS BIOLOG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00ff"/>
                </a:solidFill>
                <a:latin typeface="Calibri"/>
              </a:rPr>
              <a:t>descarboxilación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00ff"/>
                </a:solidFill>
                <a:latin typeface="Calibri"/>
              </a:rPr>
              <a:t>piridoxalfosfato</a:t>
            </a: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AR" sz="3200" spc="-1" strike="noStrike">
                <a:solidFill>
                  <a:srgbClr val="0000ff"/>
                </a:solidFill>
                <a:latin typeface="Calibri"/>
              </a:rPr>
              <a:t>(PLP)</a:t>
            </a: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Rectángulo"/>
          <p:cNvSpPr/>
          <p:nvPr/>
        </p:nvSpPr>
        <p:spPr>
          <a:xfrm>
            <a:off x="446760" y="1429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Calibri"/>
              </a:rPr>
              <a:t>PROBLEMA N°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Acido </a:t>
            </a:r>
            <a:r>
              <a:rPr b="1" lang="es-AR" sz="3200" spc="-1" strike="noStrike">
                <a:solidFill>
                  <a:srgbClr val="1f497d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-aminobutirico (</a:t>
            </a:r>
            <a:r>
              <a:rPr b="0" lang="es-AR" sz="3200" spc="-1" strike="noStrike">
                <a:solidFill>
                  <a:srgbClr val="0000ff"/>
                </a:solidFill>
                <a:latin typeface="Calibri"/>
              </a:rPr>
              <a:t>GABA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2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413" name="Picture 13" descr=""/>
            <p:cNvPicPr/>
            <p:nvPr/>
          </p:nvPicPr>
          <p:blipFill>
            <a:blip r:embed="rId1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 Box 14"/>
            <p:cNvSpPr/>
            <p:nvPr/>
          </p:nvSpPr>
          <p:spPr>
            <a:xfrm>
              <a:off x="1683720" y="213372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7"/>
          <p:cNvGrpSpPr/>
          <p:nvPr/>
        </p:nvGrpSpPr>
        <p:grpSpPr>
          <a:xfrm>
            <a:off x="6392880" y="1484280"/>
            <a:ext cx="2131920" cy="1020600"/>
            <a:chOff x="6392880" y="1484280"/>
            <a:chExt cx="2131920" cy="1020600"/>
          </a:xfrm>
        </p:grpSpPr>
        <p:pic>
          <p:nvPicPr>
            <p:cNvPr id="416" name="Picture 16" descr=""/>
            <p:cNvPicPr/>
            <p:nvPr/>
          </p:nvPicPr>
          <p:blipFill>
            <a:blip r:embed="rId2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 Box 15"/>
            <p:cNvSpPr/>
            <p:nvPr/>
          </p:nvSpPr>
          <p:spPr>
            <a:xfrm>
              <a:off x="7323480" y="199368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59"/>
          <p:cNvGrpSpPr/>
          <p:nvPr/>
        </p:nvGrpSpPr>
        <p:grpSpPr>
          <a:xfrm>
            <a:off x="4716360" y="4005360"/>
            <a:ext cx="1071360" cy="902520"/>
            <a:chOff x="4716360" y="4005360"/>
            <a:chExt cx="1071360" cy="902520"/>
          </a:xfrm>
        </p:grpSpPr>
        <p:sp>
          <p:nvSpPr>
            <p:cNvPr id="419" name="Arc 19"/>
            <p:cNvSpPr/>
            <p:nvPr/>
          </p:nvSpPr>
          <p:spPr>
            <a:xfrm>
              <a:off x="4716360" y="4005360"/>
              <a:ext cx="720720" cy="50472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3"/>
            <p:cNvSpPr/>
            <p:nvPr/>
          </p:nvSpPr>
          <p:spPr>
            <a:xfrm>
              <a:off x="5265720" y="4502160"/>
              <a:ext cx="52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Calibri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422" name="Picture 25" descr=""/>
            <p:cNvPicPr/>
            <p:nvPr/>
          </p:nvPicPr>
          <p:blipFill>
            <a:blip r:embed="rId3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26"/>
            <p:cNvSpPr/>
            <p:nvPr/>
          </p:nvSpPr>
          <p:spPr>
            <a:xfrm>
              <a:off x="7438320" y="321120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0"/>
          <p:cNvGrpSpPr/>
          <p:nvPr/>
        </p:nvGrpSpPr>
        <p:grpSpPr>
          <a:xfrm>
            <a:off x="6372360" y="3789360"/>
            <a:ext cx="2366280" cy="955800"/>
            <a:chOff x="6372360" y="3789360"/>
            <a:chExt cx="2366280" cy="955800"/>
          </a:xfrm>
        </p:grpSpPr>
        <p:pic>
          <p:nvPicPr>
            <p:cNvPr id="425" name="Picture 28" descr=""/>
            <p:cNvPicPr/>
            <p:nvPr/>
          </p:nvPicPr>
          <p:blipFill>
            <a:blip r:embed="rId4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 Box 29"/>
            <p:cNvSpPr/>
            <p:nvPr/>
          </p:nvSpPr>
          <p:spPr>
            <a:xfrm>
              <a:off x="7517160" y="422136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9"/>
          <p:cNvGrpSpPr/>
          <p:nvPr/>
        </p:nvGrpSpPr>
        <p:grpSpPr>
          <a:xfrm>
            <a:off x="1096920" y="4933800"/>
            <a:ext cx="1256400" cy="1737000"/>
            <a:chOff x="1096920" y="4933800"/>
            <a:chExt cx="1256400" cy="1737000"/>
          </a:xfrm>
        </p:grpSpPr>
        <p:pic>
          <p:nvPicPr>
            <p:cNvPr id="428" name="Picture 31" descr=""/>
            <p:cNvPicPr/>
            <p:nvPr/>
          </p:nvPicPr>
          <p:blipFill>
            <a:blip r:embed="rId5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2"/>
            <p:cNvSpPr/>
            <p:nvPr/>
          </p:nvSpPr>
          <p:spPr>
            <a:xfrm>
              <a:off x="1154520" y="630252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35"/>
          <p:cNvGrpSpPr/>
          <p:nvPr/>
        </p:nvGrpSpPr>
        <p:grpSpPr>
          <a:xfrm>
            <a:off x="6737400" y="4941720"/>
            <a:ext cx="1443960" cy="1297080"/>
            <a:chOff x="6737400" y="4941720"/>
            <a:chExt cx="1443960" cy="1297080"/>
          </a:xfrm>
        </p:grpSpPr>
        <p:pic>
          <p:nvPicPr>
            <p:cNvPr id="431" name="Picture 33" descr=""/>
            <p:cNvPicPr/>
            <p:nvPr/>
          </p:nvPicPr>
          <p:blipFill>
            <a:blip r:embed="rId6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4"/>
            <p:cNvSpPr/>
            <p:nvPr/>
          </p:nvSpPr>
          <p:spPr>
            <a:xfrm>
              <a:off x="7449120" y="544680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2"/>
          <p:cNvGrpSpPr/>
          <p:nvPr/>
        </p:nvGrpSpPr>
        <p:grpSpPr>
          <a:xfrm>
            <a:off x="611280" y="3711600"/>
            <a:ext cx="2330280" cy="1231920"/>
            <a:chOff x="611280" y="3711600"/>
            <a:chExt cx="2330280" cy="1231920"/>
          </a:xfrm>
        </p:grpSpPr>
        <p:pic>
          <p:nvPicPr>
            <p:cNvPr id="434" name="Picture 36" descr=""/>
            <p:cNvPicPr/>
            <p:nvPr/>
          </p:nvPicPr>
          <p:blipFill>
            <a:blip r:embed="rId7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7"/>
            <p:cNvSpPr/>
            <p:nvPr/>
          </p:nvSpPr>
          <p:spPr>
            <a:xfrm>
              <a:off x="1756440" y="457524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50"/>
          <p:cNvGrpSpPr/>
          <p:nvPr/>
        </p:nvGrpSpPr>
        <p:grpSpPr>
          <a:xfrm>
            <a:off x="257040" y="2637000"/>
            <a:ext cx="2733480" cy="1087200"/>
            <a:chOff x="257040" y="2637000"/>
            <a:chExt cx="2733480" cy="1087200"/>
          </a:xfrm>
        </p:grpSpPr>
        <p:grpSp>
          <p:nvGrpSpPr>
            <p:cNvPr id="437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438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45" descr=""/>
              <p:cNvPicPr/>
              <p:nvPr/>
            </p:nvPicPr>
            <p:blipFill>
              <a:blip r:embed="rId9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41"/>
            <p:cNvSpPr/>
            <p:nvPr/>
          </p:nvSpPr>
          <p:spPr>
            <a:xfrm>
              <a:off x="2053800" y="33559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443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444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21"/>
              <p:cNvSpPr/>
              <p:nvPr/>
            </p:nvSpPr>
            <p:spPr>
              <a:xfrm>
                <a:off x="3831840" y="3567240"/>
                <a:ext cx="161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Calibri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22"/>
              <p:cNvSpPr/>
              <p:nvPr/>
            </p:nvSpPr>
            <p:spPr>
              <a:xfrm>
                <a:off x="4198680" y="407664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Calibri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c0504d"/>
                </a:solidFill>
                <a:uFillTx/>
                <a:latin typeface="Calibri"/>
              </a:rPr>
              <a:t>La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posee acción vasodilatador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disminuye la presión sanguíne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colabora en la constricción de los bronquiolo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timula la producción de HCl y estimula la pepsina en est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  <a:ea typeface="Arial"/>
              </a:rPr>
              <a:t>ó</a:t>
            </a: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mag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se libera bruscamente en respuesta  al ingreso de sustancias alergenas en los tej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Tiramina y triptamina</a:t>
            </a:r>
            <a:r>
              <a:rPr b="1" lang="es-AR" sz="2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son sustancias vasoconstricto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l</a:t>
            </a:r>
            <a:r>
              <a:rPr b="1" lang="es-AR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Acido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γ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-aminobut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í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rico (GABA)</a:t>
            </a:r>
            <a:r>
              <a:rPr b="1" lang="es-AR" sz="2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un compuesto funcionalmente muy importa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un intermediario químico  regulador de la actividad neur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inhibidor de la transmisión del impulso nervi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50840" y="-12600"/>
            <a:ext cx="3873600" cy="6870600"/>
          </a:xfrm>
          <a:prstGeom prst="rect">
            <a:avLst/>
          </a:prstGeom>
          <a:ln w="0">
            <a:noFill/>
          </a:ln>
        </p:spPr>
      </p:pic>
      <p:sp>
        <p:nvSpPr>
          <p:cNvPr id="455" name="4 CuadroTexto"/>
          <p:cNvSpPr/>
          <p:nvPr/>
        </p:nvSpPr>
        <p:spPr>
          <a:xfrm>
            <a:off x="4091040" y="5857920"/>
            <a:ext cx="23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Biosíntesis de Gluta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(animales, plantas, bacter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5 CuadroTexto"/>
          <p:cNvSpPr/>
          <p:nvPr/>
        </p:nvSpPr>
        <p:spPr>
          <a:xfrm>
            <a:off x="4439520" y="1214280"/>
            <a:ext cx="448452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Glutamato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Cisteína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7 Conector recto de flecha"/>
          <p:cNvCxnSpPr/>
          <p:nvPr/>
        </p:nvCxnSpPr>
        <p:spPr>
          <a:xfrm>
            <a:off x="4788000" y="1571760"/>
            <a:ext cx="784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58" name="8 Conector recto de flecha"/>
          <p:cNvCxnSpPr/>
          <p:nvPr/>
        </p:nvCxnSpPr>
        <p:spPr>
          <a:xfrm flipH="1">
            <a:off x="6641280" y="1571760"/>
            <a:ext cx="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59" name="9 Conector recto de flecha"/>
          <p:cNvCxnSpPr/>
          <p:nvPr/>
        </p:nvCxnSpPr>
        <p:spPr>
          <a:xfrm flipH="1">
            <a:off x="7786440" y="1499760"/>
            <a:ext cx="6451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60" name="12 CuadroTexto"/>
          <p:cNvSpPr/>
          <p:nvPr/>
        </p:nvSpPr>
        <p:spPr>
          <a:xfrm>
            <a:off x="5214960" y="2286000"/>
            <a:ext cx="2786040" cy="3682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lutatión  </a:t>
            </a: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14 CuadroTexto"/>
          <p:cNvSpPr/>
          <p:nvPr/>
        </p:nvSpPr>
        <p:spPr>
          <a:xfrm>
            <a:off x="4468320" y="3500280"/>
            <a:ext cx="3577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Calibri"/>
              </a:rPr>
              <a:t>Glutatión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(G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Amortiguador de óxido-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Colabora en mantener re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los –SH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Elimina peróxidos tóx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en condiciones aerób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5 Rectángulo"/>
          <p:cNvSpPr/>
          <p:nvPr/>
        </p:nvSpPr>
        <p:spPr>
          <a:xfrm>
            <a:off x="3857760" y="21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5654520" cy="3112920"/>
          </a:xfrm>
          <a:prstGeom prst="rect">
            <a:avLst/>
          </a:prstGeom>
          <a:ln w="9360">
            <a:solidFill>
              <a:srgbClr val="3114dc"/>
            </a:solidFill>
            <a:miter/>
          </a:ln>
        </p:spPr>
      </p:pic>
      <p:sp>
        <p:nvSpPr>
          <p:cNvPr id="464" name="2 CuadroTexto"/>
          <p:cNvSpPr/>
          <p:nvPr/>
        </p:nvSpPr>
        <p:spPr>
          <a:xfrm>
            <a:off x="5284800" y="1500120"/>
            <a:ext cx="75060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3 CuadroTexto"/>
          <p:cNvSpPr/>
          <p:nvPr/>
        </p:nvSpPr>
        <p:spPr>
          <a:xfrm>
            <a:off x="3786120" y="3429000"/>
            <a:ext cx="1285920" cy="64260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4 CuadroTexto"/>
          <p:cNvSpPr/>
          <p:nvPr/>
        </p:nvSpPr>
        <p:spPr>
          <a:xfrm>
            <a:off x="2214720" y="1571760"/>
            <a:ext cx="107136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5 CuadroTexto"/>
          <p:cNvSpPr/>
          <p:nvPr/>
        </p:nvSpPr>
        <p:spPr>
          <a:xfrm>
            <a:off x="1758240" y="1143000"/>
            <a:ext cx="173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6 Rectángulo"/>
          <p:cNvSpPr/>
          <p:nvPr/>
        </p:nvSpPr>
        <p:spPr>
          <a:xfrm>
            <a:off x="928800" y="214200"/>
            <a:ext cx="74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Calibri"/>
              </a:rPr>
              <a:t>AMINOÁCIDOS PRECURSORES DE COMPUESTOS 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7 CuadroTexto"/>
          <p:cNvSpPr/>
          <p:nvPr/>
        </p:nvSpPr>
        <p:spPr>
          <a:xfrm>
            <a:off x="2489400" y="4286160"/>
            <a:ext cx="407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minoácidos precursores del núcleo de pur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(Nucleótidos de Pur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2 Rectángulo"/>
          <p:cNvSpPr/>
          <p:nvPr/>
        </p:nvSpPr>
        <p:spPr>
          <a:xfrm>
            <a:off x="1857240" y="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3 CuadroTexto"/>
          <p:cNvSpPr/>
          <p:nvPr/>
        </p:nvSpPr>
        <p:spPr>
          <a:xfrm>
            <a:off x="3785400" y="1071720"/>
            <a:ext cx="9367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Tir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6 Conector recto de flecha"/>
          <p:cNvCxnSpPr/>
          <p:nvPr/>
        </p:nvCxnSpPr>
        <p:spPr>
          <a:xfrm flipH="1">
            <a:off x="4284360" y="1499760"/>
            <a:ext cx="216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3" name="11 CuadroTexto"/>
          <p:cNvSpPr/>
          <p:nvPr/>
        </p:nvSpPr>
        <p:spPr>
          <a:xfrm>
            <a:off x="3761280" y="2143080"/>
            <a:ext cx="107820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Me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https://encrypted-tbn1.gstatic.com/images?q=tbn:ANd9GcTXYCxcSKVJ6Gum6b5_Dj6RMALX6t-FyrJIASvupD9FxSFnAxa1mQ"/>
          <p:cNvPicPr/>
          <p:nvPr/>
        </p:nvPicPr>
        <p:blipFill>
          <a:blip r:embed="rId1"/>
          <a:stretch/>
        </p:blipFill>
        <p:spPr>
          <a:xfrm>
            <a:off x="7095960" y="1128600"/>
            <a:ext cx="2048040" cy="2229120"/>
          </a:xfrm>
          <a:prstGeom prst="rect">
            <a:avLst/>
          </a:prstGeom>
          <a:ln w="0">
            <a:noFill/>
          </a:ln>
        </p:spPr>
      </p:pic>
      <p:sp>
        <p:nvSpPr>
          <p:cNvPr id="47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6" descr="https://encrypted-tbn1.gstatic.com/images?q=tbn:ANd9GcRW3ysJb_FVMx3gzU3PEf8MrY9nDXB4P4gfl-AWkXxKVb9Ek-HBtA"/>
          <p:cNvPicPr/>
          <p:nvPr/>
        </p:nvPicPr>
        <p:blipFill>
          <a:blip r:embed="rId2"/>
          <a:stretch/>
        </p:blipFill>
        <p:spPr>
          <a:xfrm>
            <a:off x="77868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8" descr="https://encrypted-tbn0.gstatic.com/images?q=tbn:ANd9GcSSnWwdapU50ofmmJe1IwOfzDB6YpHrJtMWjhcIT0COIBYxTsWoig"/>
          <p:cNvPicPr/>
          <p:nvPr/>
        </p:nvPicPr>
        <p:blipFill>
          <a:blip r:embed="rId3"/>
          <a:stretch/>
        </p:blipFill>
        <p:spPr>
          <a:xfrm>
            <a:off x="0" y="571680"/>
            <a:ext cx="3403440" cy="2286000"/>
          </a:xfrm>
          <a:prstGeom prst="rect">
            <a:avLst/>
          </a:prstGeom>
          <a:ln w="0">
            <a:noFill/>
          </a:ln>
        </p:spPr>
      </p:pic>
      <p:sp>
        <p:nvSpPr>
          <p:cNvPr id="483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2" descr="http://upload.wikimedia.org/wikipedia/commons/c/c2/Melanina2.jpg"/>
          <p:cNvPicPr/>
          <p:nvPr/>
        </p:nvPicPr>
        <p:blipFill>
          <a:blip r:embed="rId4"/>
          <a:stretch/>
        </p:blipFill>
        <p:spPr>
          <a:xfrm>
            <a:off x="71280" y="2930400"/>
            <a:ext cx="6604200" cy="3713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4" descr="https://encrypted-tbn0.gstatic.com/images?q=tbn:ANd9GcSKudC4Qv9hEj3w7jvon_Kyx0OnYnCqz9keZWFXP7ZroP-ZoXEa6w"/>
          <p:cNvPicPr/>
          <p:nvPr/>
        </p:nvPicPr>
        <p:blipFill>
          <a:blip r:embed="rId5"/>
          <a:stretch/>
        </p:blipFill>
        <p:spPr>
          <a:xfrm>
            <a:off x="5716440" y="1071720"/>
            <a:ext cx="1212840" cy="1714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8" descr="https://encrypted-tbn1.gstatic.com/images?q=tbn:ANd9GcRRoFPYZRQEdBVxgXrsCjcQ9WwXOCTyyg5zQZcm2SkWwHPnGpNb"/>
          <p:cNvPicPr/>
          <p:nvPr/>
        </p:nvPicPr>
        <p:blipFill>
          <a:blip r:embed="rId6"/>
          <a:stretch/>
        </p:blipFill>
        <p:spPr>
          <a:xfrm>
            <a:off x="5643720" y="2716200"/>
            <a:ext cx="1357200" cy="1784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0" descr="https://encrypted-tbn3.gstatic.com/images?q=tbn:ANd9GcSBeALYJFmxyuyi_2o_GE2Yvb9CfOb2_DctUd9hmlcWT2-v8KgI"/>
          <p:cNvPicPr/>
          <p:nvPr/>
        </p:nvPicPr>
        <p:blipFill>
          <a:blip r:embed="rId7"/>
          <a:stretch/>
        </p:blipFill>
        <p:spPr>
          <a:xfrm>
            <a:off x="7286760" y="492912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2" descr="https://encrypted-tbn2.gstatic.com/images?q=tbn:ANd9GcTlYSa0SFiFfVWk43WZjwuKNxqxdC_Mr8Dx25QtIut3SExIvvjZ"/>
          <p:cNvPicPr/>
          <p:nvPr/>
        </p:nvPicPr>
        <p:blipFill>
          <a:blip r:embed="rId8"/>
          <a:stretch/>
        </p:blipFill>
        <p:spPr>
          <a:xfrm>
            <a:off x="7143840" y="3429000"/>
            <a:ext cx="20001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1 CuadroTexto"/>
          <p:cNvSpPr/>
          <p:nvPr/>
        </p:nvSpPr>
        <p:spPr>
          <a:xfrm>
            <a:off x="3323160" y="2071800"/>
            <a:ext cx="2151360" cy="91692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Calibri"/>
              </a:rPr>
              <a:t>Hormonas Tiroideas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Triiodo-tironina (T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Tiroxina (T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2 CuadroTexto"/>
          <p:cNvSpPr/>
          <p:nvPr/>
        </p:nvSpPr>
        <p:spPr>
          <a:xfrm>
            <a:off x="3785400" y="857160"/>
            <a:ext cx="9367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Tir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3 Conector recto de flecha"/>
          <p:cNvCxnSpPr/>
          <p:nvPr/>
        </p:nvCxnSpPr>
        <p:spPr>
          <a:xfrm flipH="1">
            <a:off x="4284360" y="1285560"/>
            <a:ext cx="216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" descr="http://upload.wikimedia.org/wikipedia/commons/c/cb/Thyroid_system.png"/>
          <p:cNvPicPr/>
          <p:nvPr/>
        </p:nvPicPr>
        <p:blipFill>
          <a:blip r:embed="rId1"/>
          <a:stretch/>
        </p:blipFill>
        <p:spPr>
          <a:xfrm>
            <a:off x="0" y="1000080"/>
            <a:ext cx="3071880" cy="3567240"/>
          </a:xfrm>
          <a:prstGeom prst="rect">
            <a:avLst/>
          </a:prstGeom>
          <a:ln w="0">
            <a:noFill/>
          </a:ln>
        </p:spPr>
      </p:pic>
      <p:sp>
        <p:nvSpPr>
          <p:cNvPr id="495" name="7 Rectángulo"/>
          <p:cNvSpPr/>
          <p:nvPr/>
        </p:nvSpPr>
        <p:spPr>
          <a:xfrm>
            <a:off x="2357280" y="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9 CuadroTexto"/>
          <p:cNvSpPr/>
          <p:nvPr/>
        </p:nvSpPr>
        <p:spPr>
          <a:xfrm>
            <a:off x="816840" y="928800"/>
            <a:ext cx="163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https://encrypted-tbn1.gstatic.com/images?q=tbn:ANd9GcQxNi-u70SQxIVKmGOvtnh7kgqyOvWimlwy4r0ppVr656FPTjiO"/>
          <p:cNvPicPr/>
          <p:nvPr/>
        </p:nvPicPr>
        <p:blipFill>
          <a:blip r:embed="rId2"/>
          <a:stretch/>
        </p:blipFill>
        <p:spPr>
          <a:xfrm>
            <a:off x="5929200" y="2571840"/>
            <a:ext cx="3071880" cy="4100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0" descr="http://www.tuotromedico.com/imagenes/bociog.jpg"/>
          <p:cNvPicPr/>
          <p:nvPr/>
        </p:nvPicPr>
        <p:blipFill>
          <a:blip r:embed="rId3"/>
          <a:stretch/>
        </p:blipFill>
        <p:spPr>
          <a:xfrm>
            <a:off x="3000240" y="4740120"/>
            <a:ext cx="1500480" cy="2046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2" descr="https://encrypted-tbn3.gstatic.com/images?q=tbn:ANd9GcQsTp_vaDNrhSLMNFT0EmKxsR4_OR5hHGv-DAkEAajmDS5eDE6ypg"/>
          <p:cNvPicPr/>
          <p:nvPr/>
        </p:nvPicPr>
        <p:blipFill>
          <a:blip r:embed="rId4"/>
          <a:stretch/>
        </p:blipFill>
        <p:spPr>
          <a:xfrm>
            <a:off x="1571760" y="4611600"/>
            <a:ext cx="1285920" cy="215604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6" descr="http://saludok.com/wp-content/uploads/2012/03/sintomas-hipertiroidismo.jpg"/>
          <p:cNvPicPr/>
          <p:nvPr/>
        </p:nvPicPr>
        <p:blipFill>
          <a:blip r:embed="rId5"/>
          <a:stretch/>
        </p:blipFill>
        <p:spPr>
          <a:xfrm>
            <a:off x="4506840" y="5143680"/>
            <a:ext cx="1274760" cy="1233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http://www.diariolaprimeraperu.com/online/images/2012/mayo/29/cys1.jpg"/>
          <p:cNvPicPr/>
          <p:nvPr/>
        </p:nvPicPr>
        <p:blipFill>
          <a:blip r:embed="rId6"/>
          <a:stretch/>
        </p:blipFill>
        <p:spPr>
          <a:xfrm>
            <a:off x="47520" y="528624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AMINOACIDOS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ETOGENICOS Y GLUCOGEN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5520" y="1844640"/>
            <a:ext cx="823284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Comic Sans MS"/>
              </a:rPr>
              <a:t>¿En qué se pueden converti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Comic Sans MS"/>
              </a:rPr>
              <a:t>los esqueletos carbonados de los Aminoácido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Glucogé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os esqueletos carbonados pueden utilizarse para la síntesis de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r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gluconeogénesis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(Aspártico, Alan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Cetogé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os esqueletos carbonados pueden ser convertidos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uerpos cetónicos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(Leucina y Lis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génicos y cetogénic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Fenilalanina, Tirosina, Triptof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28584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52" descr=""/>
          <p:cNvPicPr/>
          <p:nvPr/>
        </p:nvPicPr>
        <p:blipFill>
          <a:blip r:embed="rId1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6 CuadroTexto"/>
          <p:cNvSpPr/>
          <p:nvPr/>
        </p:nvSpPr>
        <p:spPr>
          <a:xfrm>
            <a:off x="1357200" y="3500280"/>
            <a:ext cx="1357560" cy="3700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1 Rectángulo"/>
          <p:cNvSpPr/>
          <p:nvPr/>
        </p:nvSpPr>
        <p:spPr>
          <a:xfrm>
            <a:off x="214200" y="0"/>
            <a:ext cx="5929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Las catecolamin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Calibri"/>
              </a:rPr>
              <a:t>Dopamina, Noradrenalina y Adrenalina</a:t>
            </a:r>
            <a:r>
              <a:rPr b="1" lang="es-AR" sz="1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e producen en el sistema nervio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y en la medula ad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on vasoconstrictores en algunos tejidos y vasodilatadores en 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umentan la frecuencia cardía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on relajantes del músculo bronqu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estimulan la glucógenolisis en múscu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estimulan la lipólisis en tejido adi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http://demedicina.com/wp-content/uploads/dopamina_thumb.jpg"/>
          <p:cNvPicPr/>
          <p:nvPr/>
        </p:nvPicPr>
        <p:blipFill>
          <a:blip r:embed="rId1"/>
          <a:stretch/>
        </p:blipFill>
        <p:spPr>
          <a:xfrm>
            <a:off x="5286240" y="1928880"/>
            <a:ext cx="3783240" cy="37227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https://encrypted-tbn3.gstatic.com/images?q=tbn:ANd9GcS95lN5sECYzKWsMCnc8H8ORuOEqD_Q4Ka8YrlswWTfgj_VM9GwOg"/>
          <p:cNvPicPr/>
          <p:nvPr/>
        </p:nvPicPr>
        <p:blipFill>
          <a:blip r:embed="rId2"/>
          <a:stretch/>
        </p:blipFill>
        <p:spPr>
          <a:xfrm>
            <a:off x="2949480" y="5143680"/>
            <a:ext cx="1693800" cy="1285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https://encrypted-tbn0.gstatic.com/images?q=tbn:ANd9GcTPRyjLK6AoPPtLqBO37vg8SPKYi08Px9qI0tAYFKddlngHsS2unw"/>
          <p:cNvPicPr/>
          <p:nvPr/>
        </p:nvPicPr>
        <p:blipFill>
          <a:blip r:embed="rId3"/>
          <a:stretch/>
        </p:blipFill>
        <p:spPr>
          <a:xfrm>
            <a:off x="357120" y="4929120"/>
            <a:ext cx="2000160" cy="1730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9" descr="https://encrypted-tbn2.gstatic.com/images?q=tbn:ANd9GcQGKkBpLSOCaiKndiWv8rE2ZqoscxlHQNP_ZNzWc7goP_-HZkow"/>
          <p:cNvPicPr/>
          <p:nvPr/>
        </p:nvPicPr>
        <p:blipFill>
          <a:blip r:embed="rId4"/>
          <a:stretch/>
        </p:blipFill>
        <p:spPr>
          <a:xfrm>
            <a:off x="1143000" y="3195720"/>
            <a:ext cx="2647800" cy="1733400"/>
          </a:xfrm>
          <a:prstGeom prst="rect">
            <a:avLst/>
          </a:prstGeom>
          <a:ln w="0">
            <a:noFill/>
          </a:ln>
        </p:spPr>
      </p:pic>
      <p:sp>
        <p:nvSpPr>
          <p:cNvPr id="514" name="9 Elipse"/>
          <p:cNvSpPr/>
          <p:nvPr/>
        </p:nvSpPr>
        <p:spPr>
          <a:xfrm>
            <a:off x="6786720" y="1928880"/>
            <a:ext cx="78552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11 Conector recto"/>
          <p:cNvSpPr/>
          <p:nvPr/>
        </p:nvSpPr>
        <p:spPr>
          <a:xfrm>
            <a:off x="6786720" y="3000240"/>
            <a:ext cx="785520" cy="18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FUNCIONES PRECURSORAS DE LOS AMINOA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39120" cy="4524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GLIC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SER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GLUTAMINA y GLUTAMATO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FENILALANINA y TIROS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TIROS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TRIPTOFANO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erotonina, Triptamina, Melatonina, Acido nicotínico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RGI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SERINA Y 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HISTID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RGININA, GLICINA Y 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66400" cy="1368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FACTORES UTILIZADOS EN REACCIONES DE DEGRADACION DE ESQUELETOS CARB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560" y="1857240"/>
            <a:ext cx="8232840" cy="452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TETRAHIDROFOLATO (FH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Transferencia de unidades de un carbono (metilo, formilo, metilen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S-ADENOSILMETIONINA (SAM):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ransferencia de metil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TETRAHIDROBIOPTERINA (BH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Transportador de electr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UTILIZACION DE METILOS DE METIONINA </a:t>
            </a:r>
            <a:br>
              <a:rPr sz="2800"/>
            </a:b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N REACCIONES DE SINT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drena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RN metil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32840" cy="114156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ORMACION DE S-ADENOSIL METIONINA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(SAM ó AdoM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3" name="Object 5"/>
          <p:cNvGraphicFramePr/>
          <p:nvPr/>
        </p:nvGraphicFramePr>
        <p:xfrm>
          <a:off x="395280" y="1341360"/>
          <a:ext cx="507996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50799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8"/>
          <p:cNvSpPr/>
          <p:nvPr/>
        </p:nvSpPr>
        <p:spPr>
          <a:xfrm>
            <a:off x="6227640" y="1557360"/>
            <a:ext cx="2449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METI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9"/>
          <p:cNvSpPr/>
          <p:nvPr/>
        </p:nvSpPr>
        <p:spPr>
          <a:xfrm>
            <a:off x="7020000" y="2276640"/>
            <a:ext cx="649080" cy="1728720"/>
          </a:xfrm>
          <a:prstGeom prst="downArrow">
            <a:avLst>
              <a:gd name="adj1" fmla="val 50000"/>
              <a:gd name="adj2" fmla="val 665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0"/>
          <p:cNvSpPr/>
          <p:nvPr/>
        </p:nvSpPr>
        <p:spPr>
          <a:xfrm>
            <a:off x="5940360" y="4149720"/>
            <a:ext cx="3097440" cy="230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PAL DO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 METI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2"/>
          <p:cNvSpPr/>
          <p:nvPr/>
        </p:nvSpPr>
        <p:spPr>
          <a:xfrm>
            <a:off x="2916360" y="2276640"/>
            <a:ext cx="71280" cy="24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3"/>
          <p:cNvSpPr/>
          <p:nvPr/>
        </p:nvSpPr>
        <p:spPr>
          <a:xfrm>
            <a:off x="1332000" y="1916280"/>
            <a:ext cx="5400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2987640" y="1916280"/>
            <a:ext cx="2952720" cy="50472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2484360" y="4869000"/>
            <a:ext cx="3559320" cy="86508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MOCIS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"/>
          <p:cNvSpPr/>
          <p:nvPr/>
        </p:nvSpPr>
        <p:spPr>
          <a:xfrm>
            <a:off x="3492360" y="2349360"/>
            <a:ext cx="922320" cy="73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3492360" y="2421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  <a:ea typeface="SimSun"/>
              </a:rPr>
              <a:t>CH</a:t>
            </a:r>
            <a:r>
              <a:rPr b="1" lang="es-MX" sz="3200" spc="-1" strike="noStrike" baseline="-25000">
                <a:solidFill>
                  <a:srgbClr val="ff0000"/>
                </a:solidFill>
                <a:latin typeface="Calibri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8"/>
          <p:cNvSpPr/>
          <p:nvPr/>
        </p:nvSpPr>
        <p:spPr>
          <a:xfrm rot="1593600">
            <a:off x="5364000" y="2565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c5c5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6300720" y="2708280"/>
            <a:ext cx="284328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SimSun"/>
              </a:rPr>
              <a:t>SÍNTESIS DE COMPUESTO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cción de Vit B</a:t>
            </a:r>
            <a:r>
              <a:rPr b="1" lang="es-A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sobre 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ransporte de grupos metil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2916360" y="2233440"/>
            <a:ext cx="0" cy="1154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AutoShape 12"/>
          <p:cNvCxnSpPr>
            <a:stCxn id="531" idx="1"/>
            <a:endCxn id="530" idx="1"/>
          </p:cNvCxnSpPr>
          <p:nvPr/>
        </p:nvCxnSpPr>
        <p:spPr>
          <a:xfrm flipH="1" rot="10800000">
            <a:off x="2484000" y="2167920"/>
            <a:ext cx="504000" cy="3134160"/>
          </a:xfrm>
          <a:prstGeom prst="bentConnector3">
            <a:avLst>
              <a:gd name="adj1" fmla="val -45389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39" name="Line 13"/>
          <p:cNvSpPr/>
          <p:nvPr/>
        </p:nvSpPr>
        <p:spPr>
          <a:xfrm>
            <a:off x="2916360" y="2637000"/>
            <a:ext cx="64764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250920" y="3213000"/>
            <a:ext cx="186516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Metil-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900000" y="2205000"/>
            <a:ext cx="108108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6"/>
          <p:cNvSpPr/>
          <p:nvPr/>
        </p:nvSpPr>
        <p:spPr>
          <a:xfrm rot="16200000">
            <a:off x="1726920" y="2744280"/>
            <a:ext cx="792360" cy="287280"/>
          </a:xfrm>
          <a:custGeom>
            <a:avLst/>
            <a:gdLst>
              <a:gd name="textAreaLeft" fmla="*/ 138600 w 792360"/>
              <a:gd name="textAreaRight" fmla="*/ 5745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7"/>
          <p:cNvSpPr/>
          <p:nvPr/>
        </p:nvSpPr>
        <p:spPr>
          <a:xfrm>
            <a:off x="2195640" y="2421000"/>
            <a:ext cx="1081080" cy="936720"/>
          </a:xfrm>
          <a:prstGeom prst="ellipse">
            <a:avLst/>
          </a:prstGeom>
          <a:solidFill>
            <a:srgbClr val="f3e80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2340000" y="2637000"/>
            <a:ext cx="807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SimSun"/>
              </a:rPr>
              <a:t>B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Calibri"/>
                <a:ea typeface="SimSu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9"/>
          <p:cNvSpPr/>
          <p:nvPr/>
        </p:nvSpPr>
        <p:spPr>
          <a:xfrm rot="1857000">
            <a:off x="4427280" y="314172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c5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11280" y="1341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RUTAS DE DEGRADACION DE LOS CARBONOS PROVENIENTES DE AMINOÁ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producen 6 productos diferen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292720" y="2852640"/>
            <a:ext cx="503280" cy="2952720"/>
          </a:xfrm>
          <a:custGeom>
            <a:avLst/>
            <a:gdLst>
              <a:gd name="textAreaLeft" fmla="*/ 0 w 503280"/>
              <a:gd name="textAreaRight" fmla="*/ 18180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084720" y="3716280"/>
            <a:ext cx="2735280" cy="129708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UCONE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24000" y="5950080"/>
            <a:ext cx="8496000" cy="87588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TODOS LOS CARBONOS DE LOS AMINOÁCIDOS PUEDEN DEGRADARSE A CO</a:t>
            </a:r>
            <a:r>
              <a:rPr b="1" lang="es-ES_tradnl" sz="2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EN 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328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lgunos aminoácidos cuando se degradan dan más de un produc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RE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RIPTOFAN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FENILALA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ISOLEU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924360" y="393372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356000" y="4076640"/>
            <a:ext cx="295272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etoacetil-CoA y Fuma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2708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iruvato, Acetil-CoA, Aceto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067280" y="5950080"/>
            <a:ext cx="3887640" cy="45972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3203640" y="623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4284720" y="1484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iruvato, 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3132000" y="19162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276720" y="306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66400" cy="1368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FACTORES UTILIZADOS EN REACCIONES DE DEGRADACION DE ESQUELETOS CARB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857240"/>
            <a:ext cx="8232840" cy="452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TETRAHIDROFOLATO (FH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Transferencia de unidades de un carbono (metilo, formilo, metilen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S-ADENOSILMETIONINA (SAM):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ransferencia de metil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TETRAHIDROBIOPTERINA (BH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Transportador de electr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73160" y="409680"/>
            <a:ext cx="689904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177" name="5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2 Rectángulo"/>
          <p:cNvSpPr/>
          <p:nvPr/>
        </p:nvSpPr>
        <p:spPr>
          <a:xfrm>
            <a:off x="5643720" y="3357720"/>
            <a:ext cx="100008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3 Rectángulo"/>
          <p:cNvSpPr/>
          <p:nvPr/>
        </p:nvSpPr>
        <p:spPr>
          <a:xfrm>
            <a:off x="300024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550080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550080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9 CuadroTexto"/>
          <p:cNvSpPr/>
          <p:nvPr/>
        </p:nvSpPr>
        <p:spPr>
          <a:xfrm>
            <a:off x="682560" y="5715000"/>
            <a:ext cx="747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0 CuadroTexto"/>
          <p:cNvSpPr/>
          <p:nvPr/>
        </p:nvSpPr>
        <p:spPr>
          <a:xfrm>
            <a:off x="1825560" y="5715000"/>
            <a:ext cx="747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1 CuadroTexto"/>
          <p:cNvSpPr/>
          <p:nvPr/>
        </p:nvSpPr>
        <p:spPr>
          <a:xfrm>
            <a:off x="5968800" y="2581200"/>
            <a:ext cx="747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4"/>
          <p:cNvSpPr/>
          <p:nvPr/>
        </p:nvSpPr>
        <p:spPr>
          <a:xfrm>
            <a:off x="3635280" y="5084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3248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AMINOACIDOS QUE FORMAN 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843280" y="1341360"/>
            <a:ext cx="2232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867280" y="2349360"/>
            <a:ext cx="23767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867280" y="4581360"/>
            <a:ext cx="18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132000" y="2781360"/>
            <a:ext cx="15112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0" y="2781360"/>
            <a:ext cx="2627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ALDEH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203640" y="4581360"/>
            <a:ext cx="1511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6360" y="5300640"/>
            <a:ext cx="187164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ISTE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2843280" y="6165720"/>
            <a:ext cx="20890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6156360" y="6202440"/>
            <a:ext cx="2663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99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3780000" y="1916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2657520" y="1838520"/>
            <a:ext cx="558720" cy="80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3564000" y="5084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2016360" y="5639760"/>
            <a:ext cx="574200" cy="33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6732720" y="299736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H="1">
            <a:off x="4932000" y="5084640"/>
            <a:ext cx="165564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6804000" y="386064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 flipV="1">
            <a:off x="4999320" y="6527880"/>
            <a:ext cx="998280" cy="2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995640" y="191628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Treonina ald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3995640" y="33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Serina OH-metil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6084720" y="530064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ALT ó        G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514836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468360" y="3500280"/>
            <a:ext cx="230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Met F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2195640" y="4221000"/>
            <a:ext cx="720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9"/>
          <p:cNvSpPr/>
          <p:nvPr/>
        </p:nvSpPr>
        <p:spPr>
          <a:xfrm>
            <a:off x="3924360" y="3429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0"/>
          <p:cNvSpPr/>
          <p:nvPr/>
        </p:nvSpPr>
        <p:spPr>
          <a:xfrm>
            <a:off x="3132000" y="3716280"/>
            <a:ext cx="503280" cy="79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2700360" y="5300640"/>
            <a:ext cx="719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565164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7164360" y="3284640"/>
            <a:ext cx="194472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IL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6804000" y="3357720"/>
            <a:ext cx="36036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8172360" y="436572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125892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851280" y="4149720"/>
            <a:ext cx="86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250920" y="6093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Oxidación y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oup 32" descr=""/>
          <p:cNvPicPr/>
          <p:nvPr/>
        </p:nvPicPr>
        <p:blipFill>
          <a:blip r:embed="rId1"/>
          <a:stretch/>
        </p:blipFill>
        <p:spPr>
          <a:xfrm>
            <a:off x="1066680" y="512640"/>
            <a:ext cx="6534360" cy="635184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24"/>
          <p:cNvGrpSpPr/>
          <p:nvPr/>
        </p:nvGrpSpPr>
        <p:grpSpPr>
          <a:xfrm>
            <a:off x="2441160" y="1487520"/>
            <a:ext cx="1429920" cy="598320"/>
            <a:chOff x="2441160" y="1487520"/>
            <a:chExt cx="1429920" cy="598320"/>
          </a:xfrm>
        </p:grpSpPr>
        <p:sp>
          <p:nvSpPr>
            <p:cNvPr id="230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2441160" y="1654200"/>
              <a:ext cx="4975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alibri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3228120" y="1487520"/>
              <a:ext cx="40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Calibri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9"/>
            <p:cNvSpPr/>
            <p:nvPr/>
          </p:nvSpPr>
          <p:spPr>
            <a:xfrm>
              <a:off x="3566880" y="1844640"/>
              <a:ext cx="304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Calibri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Calibri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2936520" y="1878120"/>
              <a:ext cx="399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Calibri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5"/>
          <p:cNvGrpSpPr/>
          <p:nvPr/>
        </p:nvGrpSpPr>
        <p:grpSpPr>
          <a:xfrm>
            <a:off x="1285920" y="1590840"/>
            <a:ext cx="1772280" cy="949320"/>
            <a:chOff x="1285920" y="1590840"/>
            <a:chExt cx="1772280" cy="949320"/>
          </a:xfrm>
        </p:grpSpPr>
        <p:sp>
          <p:nvSpPr>
            <p:cNvPr id="237" name="Text Box 14"/>
            <p:cNvSpPr/>
            <p:nvPr/>
          </p:nvSpPr>
          <p:spPr>
            <a:xfrm>
              <a:off x="1285920" y="2357280"/>
              <a:ext cx="857160" cy="182880"/>
            </a:xfrm>
            <a:prstGeom prst="rect">
              <a:avLst/>
            </a:prstGeom>
            <a:solidFill>
              <a:srgbClr val="d6ecee"/>
            </a:solidFill>
            <a:ln w="22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alibri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385360" y="1989000"/>
              <a:ext cx="67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Calibri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Calibri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2"/>
            <p:cNvSpPr/>
            <p:nvPr/>
          </p:nvSpPr>
          <p:spPr>
            <a:xfrm>
              <a:off x="1378800" y="1590840"/>
              <a:ext cx="867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Calibri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3"/>
            <p:cNvSpPr/>
            <p:nvPr/>
          </p:nvSpPr>
          <p:spPr>
            <a:xfrm>
              <a:off x="1684080" y="1951200"/>
              <a:ext cx="270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Calibri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33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6"/>
          <p:cNvSpPr/>
          <p:nvPr/>
        </p:nvSpPr>
        <p:spPr>
          <a:xfrm>
            <a:off x="471492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26 CuadroTexto"/>
          <p:cNvSpPr/>
          <p:nvPr/>
        </p:nvSpPr>
        <p:spPr>
          <a:xfrm>
            <a:off x="6357960" y="3929040"/>
            <a:ext cx="23572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27 CuadroTexto"/>
          <p:cNvSpPr/>
          <p:nvPr/>
        </p:nvSpPr>
        <p:spPr>
          <a:xfrm>
            <a:off x="3857760" y="4786200"/>
            <a:ext cx="2714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31 CuadroTexto"/>
          <p:cNvSpPr/>
          <p:nvPr/>
        </p:nvSpPr>
        <p:spPr>
          <a:xfrm>
            <a:off x="857160" y="2571840"/>
            <a:ext cx="30006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33 CuadroTexto"/>
          <p:cNvSpPr/>
          <p:nvPr/>
        </p:nvSpPr>
        <p:spPr>
          <a:xfrm>
            <a:off x="5754600" y="928800"/>
            <a:ext cx="747720" cy="276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70c0"/>
            </a:solidFill>
            <a:miter/>
          </a:ln>
          <a:effectLst>
            <a:outerShdw dist="50760" dir="5400000" blurRad="0" rotWithShape="0">
              <a:srgbClr val="00b0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4 CuadroTexto"/>
          <p:cNvSpPr/>
          <p:nvPr/>
        </p:nvSpPr>
        <p:spPr>
          <a:xfrm>
            <a:off x="5757480" y="2367000"/>
            <a:ext cx="613440" cy="276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Glic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5 CuadroTexto"/>
          <p:cNvSpPr/>
          <p:nvPr/>
        </p:nvSpPr>
        <p:spPr>
          <a:xfrm>
            <a:off x="5609880" y="3643200"/>
            <a:ext cx="578520" cy="276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er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36 CuadroTexto"/>
          <p:cNvSpPr/>
          <p:nvPr/>
        </p:nvSpPr>
        <p:spPr>
          <a:xfrm>
            <a:off x="3429000" y="2728800"/>
            <a:ext cx="3071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38 CuadroTexto"/>
          <p:cNvSpPr/>
          <p:nvPr/>
        </p:nvSpPr>
        <p:spPr>
          <a:xfrm>
            <a:off x="5541480" y="5000760"/>
            <a:ext cx="718560" cy="27648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Piruv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9 CuadroTexto"/>
          <p:cNvSpPr/>
          <p:nvPr/>
        </p:nvSpPr>
        <p:spPr>
          <a:xfrm>
            <a:off x="3643200" y="3929040"/>
            <a:ext cx="28576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40 CuadroTexto"/>
          <p:cNvSpPr/>
          <p:nvPr/>
        </p:nvSpPr>
        <p:spPr>
          <a:xfrm>
            <a:off x="4563000" y="6581880"/>
            <a:ext cx="84528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41 CuadroTexto"/>
          <p:cNvSpPr/>
          <p:nvPr/>
        </p:nvSpPr>
        <p:spPr>
          <a:xfrm>
            <a:off x="4221720" y="5357880"/>
            <a:ext cx="14241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42 CuadroTexto"/>
          <p:cNvSpPr/>
          <p:nvPr/>
        </p:nvSpPr>
        <p:spPr>
          <a:xfrm>
            <a:off x="7217280" y="142920"/>
            <a:ext cx="1834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DEGRAD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Tre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40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07:28:10Z</dcterms:created>
  <dc:creator>ali y facu</dc:creator>
  <dc:description/>
  <dc:language>en-US</dc:language>
  <cp:lastModifiedBy>ali y facu</cp:lastModifiedBy>
  <dcterms:modified xsi:type="dcterms:W3CDTF">2014-10-24T05:06:38Z</dcterms:modified>
  <cp:revision>18</cp:revision>
  <dc:subject/>
  <dc:title>Diapositiva 1</dc:title>
</cp:coreProperties>
</file>